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00C-0422-402B-95CA-AFD8E109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4F3-B340-4561-A026-7B64140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024-A307-4203-8B28-4AC1E412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1D3-0E42-43BB-A685-025C44A2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1FB-E643-4574-A4E1-810F9CC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9B5-DC68-4D05-B6C0-A42D7FE6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DD4-B56F-46B2-8CCE-BEB9EC98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E26-B429-48FD-8082-BBFF8841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B70-2FD9-4B92-A49F-96F3303C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11D-7D06-43BC-B7FF-A04F372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3F2-3AD3-4CEC-9B08-ED7154E8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D8B-93DB-4B2D-87ED-0C2906AC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967E-B2A9-417B-B33A-2ADA5C550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raham Lincol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was born in 1809 died in 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was killed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l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59436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came a surve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732 died in 17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called the Father of 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41960" y="4572000"/>
            <a:ext cx="39020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903840"/>
            <a:ext cx="2031840" cy="29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y are alik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both born in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41148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86600" y="2209680"/>
            <a:ext cx="2057400" cy="4648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343400" y="4800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2286000"/>
            <a:ext cx="27432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05:40Z</dcterms:created>
  <dc:creator>smuser</dc:creator>
  <dc:description/>
  <dc:language>en-US</dc:language>
  <cp:lastModifiedBy>smuser</cp:lastModifiedBy>
  <dcterms:modified xsi:type="dcterms:W3CDTF">2010-02-02T20:08:58Z</dcterms:modified>
  <cp:revision>5</cp:revision>
  <dc:subject/>
  <dc:title>Comparing presidents </dc:title>
</cp:coreProperties>
</file>